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jpeg" ContentType="image/jpeg"/>
  <Override PartName="/ppt/media/image54.jpeg" ContentType="image/jpeg"/>
  <Override PartName="/ppt/media/image9.png" ContentType="image/png"/>
  <Override PartName="/ppt/media/image22.jpeg" ContentType="image/jpeg"/>
  <Override PartName="/ppt/media/image50.jpeg" ContentType="image/jpeg"/>
  <Override PartName="/ppt/media/image6.jpeg" ContentType="image/jpeg"/>
  <Override PartName="/ppt/media/image35.jpeg" ContentType="image/jpeg"/>
  <Override PartName="/ppt/media/image1.jpeg" ContentType="image/jpeg"/>
  <Override PartName="/ppt/media/image27.jpeg" ContentType="image/jpeg"/>
  <Override PartName="/ppt/media/image10.jpeg" ContentType="image/jpeg"/>
  <Override PartName="/ppt/media/Chopin%20-%20Tristesse%20(piano).wav" ContentType="audio/x-wav"/>
  <Override PartName="/ppt/media/image7.png" ContentType="image/png"/>
  <Override PartName="/ppt/media/image34.jpeg" ContentType="image/jpeg"/>
  <Override PartName="/ppt/media/image32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49.png" ContentType="image/png"/>
  <Override PartName="/ppt/media/image23.jpeg" ContentType="image/jpeg"/>
  <Override PartName="/ppt/media/image12.png" ContentType="image/png"/>
  <Override PartName="/ppt/media/image28.jpeg" ContentType="image/jpeg"/>
  <Override PartName="/ppt/media/image24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21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16.png" ContentType="image/png"/>
  <Override PartName="/ppt/media/image15.jpeg" ContentType="image/jpeg"/>
  <Override PartName="/ppt/media/image61.jpeg" ContentType="image/jpeg"/>
  <Override PartName="/ppt/media/image17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43.jpeg" ContentType="image/jpeg"/>
  <Override PartName="/ppt/media/image26.png" ContentType="image/png"/>
  <Override PartName="/ppt/media/image8.jpeg" ContentType="image/jpeg"/>
  <Override PartName="/ppt/media/image5.png" ContentType="image/png"/>
  <Override PartName="/ppt/media/image39.jpeg" ContentType="image/jpeg"/>
  <Override PartName="/ppt/media/image19.jpeg" ContentType="image/jpeg"/>
  <Override PartName="/ppt/media/image42.jpeg" ContentType="image/jpeg"/>
  <Override PartName="/ppt/media/image59.jpeg" ContentType="image/jpeg"/>
  <Override PartName="/ppt/media/image11.png" ContentType="image/png"/>
  <Override PartName="/ppt/media/image29.jpeg" ContentType="image/jpeg"/>
  <Override PartName="/ppt/media/image52.jpeg" ContentType="image/jpeg"/>
  <Override PartName="/ppt/media/image31.jpeg" ContentType="image/jpeg"/>
  <Override PartName="/ppt/media/image33.jpeg" ContentType="image/jpeg"/>
  <Override PartName="/ppt/media/image36.jpeg" ContentType="image/jpeg"/>
  <Override PartName="/ppt/media/image57.png" ContentType="image/png"/>
  <Override PartName="/ppt/media/image38.jpeg" ContentType="image/jpeg"/>
  <Override PartName="/ppt/media/image41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.jpeg" ContentType="image/jpeg"/>
  <Override PartName="/ppt/media/image51.png" ContentType="image/pn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AA3A-8C01-4E48-9308-86110CDE9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F92E-5A87-4347-8C90-F366B3294113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7EA-DB5E-4FFB-9696-984EEF71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0E7-B2D1-4963-87A7-4F4A6C4E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55F-0ECA-4842-B668-BD39FCDC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996-E390-4223-849C-B543F75B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9E80-0F5B-4FF5-B6D9-F7C9EAE8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61DA-2B55-46D6-9097-0FCF5EC6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8188-C826-4A59-A1D4-725A6750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D509-5D5B-46AA-9022-67FFE4E3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13E8-9CC8-455E-9258-2E57C2F3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B4A9-CB53-4B33-A2F9-4BF38118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6735-50CD-458A-A369-F0A29FCF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8469-8480-488D-8235-079DCD45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1BAC-D8C4-456D-9525-17ABAE1D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1FB0-1C06-486D-932F-9C9CD6DB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A145-9E75-41ED-8F62-982AA2DB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6968-01BB-4999-9814-EBFE1993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7096-395A-40D0-86D5-FB131233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6EF-CDE0-4E51-9AA3-8FC82C59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E7B-F348-4CA1-90A5-7F87C2D5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6F0-5E7D-4143-8CC3-729977A8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911-9584-4203-8CDA-0A1CD2C6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E0A-1073-4B45-AC58-548CBFA9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CDF-CE7D-4C23-ABB6-66D7CC42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E24-ED8F-4EE1-87C3-A5703835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600"/>
            <a:ext cx="2870280" cy="3275640"/>
            <a:chOff x="6273360" y="-21600"/>
            <a:chExt cx="287028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600"/>
              <a:ext cx="2870280" cy="2269080"/>
              <a:chOff x="6273360" y="-21600"/>
              <a:chExt cx="287028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600"/>
                <a:ext cx="2867400" cy="2269080"/>
                <a:chOff x="627336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1200"/>
                  <a:chOff x="7834320" y="842760"/>
                  <a:chExt cx="106380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5640" y="1602720"/>
                    <a:ext cx="4737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00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1240"/>
                    <a:ext cx="7203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680" y="905400"/>
                  <a:ext cx="1062360" cy="1141920"/>
                  <a:chOff x="6538680" y="905400"/>
                  <a:chExt cx="106236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560" y="1193760"/>
                    <a:ext cx="8805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760" y="1665360"/>
                    <a:ext cx="472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280" cy="15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560" cy="668880"/>
                  <a:chOff x="6273360" y="787320"/>
                  <a:chExt cx="130356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6200"/>
                    <a:ext cx="86040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3200"/>
                    <a:ext cx="461520" cy="26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1240"/>
                    <a:ext cx="72036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840" cy="809640"/>
                  <a:chOff x="7287480" y="-21600"/>
                  <a:chExt cx="46584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60480"/>
                    <a:ext cx="294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9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160"/>
                  <a:ext cx="497160" cy="791280"/>
                  <a:chOff x="7665840" y="-1116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6560"/>
                    <a:ext cx="543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840"/>
                    <a:ext cx="2923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480"/>
                  <a:chOff x="6710400" y="93024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6560" y="1257840"/>
                    <a:ext cx="8884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200" y="1786680"/>
                    <a:ext cx="4770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760" y="1309320"/>
                    <a:ext cx="822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1680" y="1402200"/>
                    <a:ext cx="7390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00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792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B40E-4CAF-439A-AC64-CBD251163A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600" y="245160"/>
            <a:ext cx="6896520" cy="5452200"/>
            <a:chOff x="2010600" y="245160"/>
            <a:chExt cx="689652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1120"/>
              <a:ext cx="945720" cy="709920"/>
              <a:chOff x="3484080" y="95112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112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288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600" y="245160"/>
              <a:ext cx="6896520" cy="5452200"/>
              <a:chOff x="2010600" y="245160"/>
              <a:chExt cx="689652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600" y="245160"/>
                <a:ext cx="6891480" cy="5452200"/>
                <a:chOff x="2010600" y="245160"/>
                <a:chExt cx="689148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7560"/>
                  <a:ext cx="3603240" cy="2648520"/>
                  <a:chOff x="3735720" y="1267560"/>
                  <a:chExt cx="3603240" cy="26485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7560"/>
                    <a:ext cx="3603240" cy="2648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200" y="2234160"/>
                    <a:ext cx="71352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600" y="245160"/>
                  <a:ext cx="6891480" cy="5452200"/>
                  <a:chOff x="2010600" y="245160"/>
                  <a:chExt cx="689148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0560"/>
                    <a:ext cx="2558160" cy="2740680"/>
                    <a:chOff x="5761440" y="2320560"/>
                    <a:chExt cx="255816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182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5200" y="4142880"/>
                      <a:ext cx="11379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440" y="2150280"/>
                    <a:ext cx="3039840" cy="2526840"/>
                    <a:chOff x="5788440" y="2150280"/>
                    <a:chExt cx="3039840" cy="25268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4000"/>
                      <a:ext cx="22363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096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4240"/>
                    <a:ext cx="3097080" cy="1992240"/>
                    <a:chOff x="5775840" y="2064240"/>
                    <a:chExt cx="309708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19640"/>
                      <a:ext cx="213840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3240" y="3243960"/>
                      <a:ext cx="114876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8120"/>
                    <a:ext cx="2937240" cy="1001880"/>
                    <a:chOff x="5805720" y="1878120"/>
                    <a:chExt cx="293724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40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000" y="2210040"/>
                      <a:ext cx="10209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3680"/>
                    <a:ext cx="2658600" cy="442440"/>
                    <a:chOff x="5851440" y="1813680"/>
                    <a:chExt cx="2658600" cy="4424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493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200"/>
                      <a:ext cx="9295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5720"/>
                    <a:ext cx="2363760" cy="784080"/>
                    <a:chOff x="5788440" y="1305720"/>
                    <a:chExt cx="236376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2760"/>
                      <a:ext cx="151920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4280"/>
                      <a:ext cx="816480" cy="41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480"/>
                    <a:ext cx="2557440" cy="2742480"/>
                    <a:chOff x="2646000" y="2472480"/>
                    <a:chExt cx="2557440" cy="27424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600" y="317016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440"/>
                      <a:ext cx="11426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8360" y="2365200"/>
                    <a:ext cx="3037680" cy="2533680"/>
                    <a:chOff x="2088360" y="2365200"/>
                    <a:chExt cx="3037680" cy="25336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68200"/>
                      <a:ext cx="22359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72600" y="3940200"/>
                      <a:ext cx="1200960" cy="67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1560" y="2283120"/>
                    <a:ext cx="3092040" cy="1988280"/>
                    <a:chOff x="2041560" y="2283120"/>
                    <a:chExt cx="3092040" cy="19882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4720" y="2738160"/>
                      <a:ext cx="213660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400" y="3462120"/>
                      <a:ext cx="114984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600" y="2191320"/>
                    <a:ext cx="3130560" cy="1607760"/>
                    <a:chOff x="2010600" y="2191320"/>
                    <a:chExt cx="31305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520" y="2500200"/>
                      <a:ext cx="20649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1320" cy="65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70800" y="2096280"/>
                    <a:ext cx="2936520" cy="998280"/>
                    <a:chOff x="2170800" y="2096280"/>
                    <a:chExt cx="2936520" cy="99828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5280" y="2222280"/>
                      <a:ext cx="19044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6440" y="2428560"/>
                      <a:ext cx="1020960" cy="59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8240"/>
                    <a:ext cx="2655360" cy="449640"/>
                    <a:chOff x="2403720" y="2028240"/>
                    <a:chExt cx="2655360" cy="4496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480" y="2068920"/>
                      <a:ext cx="172836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9400"/>
                      <a:ext cx="9295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0640"/>
                    <a:ext cx="2364120" cy="786960"/>
                    <a:chOff x="2761200" y="1520640"/>
                    <a:chExt cx="2364120" cy="78696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6400" y="1870200"/>
                      <a:ext cx="1518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9200"/>
                      <a:ext cx="81540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8040"/>
                    <a:ext cx="2324520" cy="1080720"/>
                    <a:chOff x="2887920" y="1238040"/>
                    <a:chExt cx="2324520" cy="10807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632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71960"/>
                      <a:ext cx="816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880" y="832680"/>
                    <a:ext cx="2169000" cy="1503720"/>
                    <a:chOff x="3161880" y="832680"/>
                    <a:chExt cx="2169000" cy="15037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1480"/>
                      <a:ext cx="1518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540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4160"/>
                    <a:ext cx="1987200" cy="1832040"/>
                    <a:chOff x="3437280" y="434160"/>
                    <a:chExt cx="1987200" cy="183204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9400"/>
                      <a:ext cx="154260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3000"/>
                    <a:ext cx="1459440" cy="1890000"/>
                    <a:chOff x="4026960" y="333000"/>
                    <a:chExt cx="1459440" cy="18900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2600" y="1443960"/>
                      <a:ext cx="13597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000" y="543960"/>
                      <a:ext cx="7282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9600" y="245160"/>
                    <a:ext cx="1119240" cy="1948320"/>
                    <a:chOff x="4449600" y="245160"/>
                    <a:chExt cx="1119240" cy="19483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3280" y="1402200"/>
                      <a:ext cx="13096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9720" y="439200"/>
                      <a:ext cx="70164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5320" y="950040"/>
                    <a:ext cx="2317680" cy="1112040"/>
                    <a:chOff x="5665320" y="950040"/>
                    <a:chExt cx="231768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9200" y="1521000"/>
                      <a:ext cx="1518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6840" y="1088280"/>
                      <a:ext cx="81684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600"/>
                    <a:ext cx="2199600" cy="1450800"/>
                    <a:chOff x="5529600" y="6246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8120"/>
                      <a:ext cx="1518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0856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3040" y="536400"/>
                    <a:ext cx="67968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0680" y="269640"/>
                    <a:ext cx="1201680" cy="1900800"/>
                    <a:chOff x="5350680" y="269640"/>
                    <a:chExt cx="1201680" cy="19008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2120" y="1416240"/>
                      <a:ext cx="131076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920"/>
                      <a:ext cx="703440" cy="35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2480" y="384120"/>
                    <a:ext cx="1891800" cy="1795320"/>
                    <a:chOff x="5352480" y="384120"/>
                    <a:chExt cx="189180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2400" y="1383120"/>
                      <a:ext cx="142524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6560" y="579960"/>
                      <a:ext cx="766440" cy="52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7960" y="290160"/>
                    <a:ext cx="424080" cy="1796040"/>
                    <a:chOff x="5457960" y="290160"/>
                    <a:chExt cx="424080" cy="17960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6520" y="1442880"/>
                      <a:ext cx="117720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38880" y="530640"/>
                      <a:ext cx="63036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4320" y="2528640"/>
                    <a:ext cx="2195280" cy="3000600"/>
                    <a:chOff x="3064320" y="2528640"/>
                    <a:chExt cx="2195280" cy="30006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2720"/>
                      <a:ext cx="212724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800" y="4589280"/>
                      <a:ext cx="11390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2600" y="2647080"/>
                    <a:ext cx="1485360" cy="3001320"/>
                    <a:chOff x="3792600" y="2647080"/>
                    <a:chExt cx="1485360" cy="300132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40400" y="3436560"/>
                      <a:ext cx="1967400" cy="38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880" cy="60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5400" y="2699640"/>
                    <a:ext cx="871200" cy="2924640"/>
                    <a:chOff x="4505400" y="2699640"/>
                    <a:chExt cx="871200" cy="29246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0600" y="348552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3200" y="4804920"/>
                      <a:ext cx="1011600" cy="54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4320" y="2481840"/>
                    <a:ext cx="2279520" cy="2949840"/>
                    <a:chOff x="5674320" y="2481840"/>
                    <a:chExt cx="2279520" cy="294984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2960" y="3248640"/>
                      <a:ext cx="2126520" cy="38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040" y="4496760"/>
                      <a:ext cx="1137240" cy="60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5160" y="2594880"/>
                    <a:ext cx="1756080" cy="3030480"/>
                    <a:chOff x="5645160" y="2594880"/>
                    <a:chExt cx="1756080" cy="30304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5160"/>
                      <a:ext cx="2031480" cy="37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47160" y="4719240"/>
                      <a:ext cx="109116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4960" y="2710440"/>
                    <a:ext cx="1226520" cy="2986920"/>
                    <a:chOff x="5574960" y="2710440"/>
                    <a:chExt cx="12265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5760" y="3542040"/>
                      <a:ext cx="197244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5360"/>
                    <a:ext cx="697680" cy="2782440"/>
                    <a:chOff x="5521320" y="2835360"/>
                    <a:chExt cx="697680" cy="278244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5280" y="3603960"/>
                      <a:ext cx="18158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560" y="4863240"/>
                      <a:ext cx="97560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120"/>
                    <a:ext cx="663120" cy="2718720"/>
                    <a:chOff x="4961160" y="2886120"/>
                    <a:chExt cx="663120" cy="27187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080"/>
                      <a:ext cx="177264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1640"/>
                      <a:ext cx="95112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1520" y="680400"/>
                <a:ext cx="6735600" cy="4523040"/>
                <a:chOff x="2171520" y="680400"/>
                <a:chExt cx="673560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1520" y="680400"/>
                  <a:ext cx="6735600" cy="4523040"/>
                  <a:chOff x="2171520" y="680400"/>
                  <a:chExt cx="673560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6080"/>
                    <a:ext cx="3166560" cy="252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58880" y="226800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9960"/>
                    <a:ext cx="1758240" cy="2937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1160" y="1295640"/>
                    <a:ext cx="313596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040" y="680400"/>
                    <a:ext cx="2282400" cy="284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3200" cy="284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040"/>
                    <a:ext cx="515160" cy="18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3160"/>
              <a:ext cx="6413400" cy="4710960"/>
              <a:chOff x="2343960" y="713160"/>
              <a:chExt cx="641340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1200" y="323640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720" y="2581200"/>
                <a:ext cx="26154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440" y="2123280"/>
                <a:ext cx="1536840" cy="293544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520"/>
                <a:ext cx="2931480" cy="29354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90440" y="2151720"/>
                <a:ext cx="469800" cy="29354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2480" y="2138040"/>
                <a:ext cx="1239480" cy="29354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800" y="354852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480" y="2947680"/>
                <a:ext cx="54468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7400" y="3385800"/>
                <a:ext cx="133740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120" y="1398960"/>
                <a:ext cx="85716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5000" y="3109320"/>
                <a:ext cx="1242360" cy="19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440" y="2111040"/>
                <a:ext cx="18741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9000" y="71316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5000" y="215532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DED2-65E0-4173-BFDA-53F3857D29D1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opin%20-%20Tristesse%20(piano)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2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9280" y="479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  ЭТОТ ДЕНЬ НАЧАЛАСЬ ВОЙН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1f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a8a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8" descr="0182"/>
          <p:cNvPicPr/>
          <p:nvPr/>
        </p:nvPicPr>
        <p:blipFill>
          <a:blip r:embed="rId1"/>
          <a:stretch/>
        </p:blipFill>
        <p:spPr>
          <a:xfrm>
            <a:off x="1116000" y="1484280"/>
            <a:ext cx="6835680" cy="51274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9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ЕТИ  ВОЙН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ЕТИ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Picture 5" descr="0197"/>
          <p:cNvPicPr/>
          <p:nvPr/>
        </p:nvPicPr>
        <p:blipFill>
          <a:blip r:embed="rId1"/>
          <a:stretch/>
        </p:blipFill>
        <p:spPr>
          <a:xfrm>
            <a:off x="1187280" y="1413000"/>
            <a:ext cx="6620040" cy="49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ЕТИ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9" name="Picture 5" descr="0248"/>
          <p:cNvPicPr/>
          <p:nvPr/>
        </p:nvPicPr>
        <p:blipFill>
          <a:blip r:embed="rId1"/>
          <a:stretch/>
        </p:blipFill>
        <p:spPr>
          <a:xfrm>
            <a:off x="1258920" y="1700280"/>
            <a:ext cx="6619680" cy="49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ЕТИ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1" name="Picture 5" descr="0257"/>
          <p:cNvPicPr/>
          <p:nvPr/>
        </p:nvPicPr>
        <p:blipFill>
          <a:blip r:embed="rId1"/>
          <a:stretch/>
        </p:blipFill>
        <p:spPr>
          <a:xfrm>
            <a:off x="1116000" y="1622520"/>
            <a:ext cx="6980400" cy="52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ЕТИ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Picture 7" descr="0627"/>
          <p:cNvPicPr/>
          <p:nvPr/>
        </p:nvPicPr>
        <p:blipFill>
          <a:blip r:embed="rId1"/>
          <a:stretch/>
        </p:blipFill>
        <p:spPr>
          <a:xfrm>
            <a:off x="1116000" y="1623960"/>
            <a:ext cx="6985080" cy="52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ЕТИ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5" name="Picture 7" descr="1101"/>
          <p:cNvPicPr/>
          <p:nvPr/>
        </p:nvPicPr>
        <p:blipFill>
          <a:blip r:embed="rId1"/>
          <a:stretch/>
        </p:blipFill>
        <p:spPr>
          <a:xfrm>
            <a:off x="1042920" y="1506600"/>
            <a:ext cx="7135920" cy="53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ЕТИ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7" name="Picture 5" descr="2200"/>
          <p:cNvPicPr/>
          <p:nvPr/>
        </p:nvPicPr>
        <p:blipFill>
          <a:blip r:embed="rId1"/>
          <a:stretch/>
        </p:blipFill>
        <p:spPr>
          <a:xfrm>
            <a:off x="1258920" y="1700280"/>
            <a:ext cx="648000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4"/>
          <p:cNvSpPr txBox="1"/>
          <p:nvPr/>
        </p:nvSpPr>
        <p:spPr>
          <a:xfrm>
            <a:off x="684360" y="1916280"/>
            <a:ext cx="748800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  ВЫ  ХОТИТ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КОЕ  ДЕТСТВО ??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1f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6a8a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ГОЛОД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8" descr="2226"/>
          <p:cNvPicPr/>
          <p:nvPr/>
        </p:nvPicPr>
        <p:blipFill>
          <a:blip r:embed="rId1"/>
          <a:stretch/>
        </p:blipFill>
        <p:spPr>
          <a:xfrm>
            <a:off x="1187280" y="1341360"/>
            <a:ext cx="7075800" cy="5311800"/>
          </a:xfrm>
          <a:prstGeom prst="rect">
            <a:avLst/>
          </a:prstGeom>
          <a:ln w="0">
            <a:noFill/>
          </a:ln>
        </p:spPr>
      </p:pic>
      <p:pic>
        <p:nvPicPr>
          <p:cNvPr id="401" name="20_02.MPG" descr=""/>
          <p:cNvPicPr/>
          <p:nvPr/>
        </p:nvPicPr>
        <p:blipFill>
          <a:blip r:embed="rId2"/>
          <a:stretch/>
        </p:blipFill>
        <p:spPr>
          <a:xfrm>
            <a:off x="179280" y="5950080"/>
            <a:ext cx="684360" cy="55872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C:\Users\One\Desktop\blokada.jpg"/>
          <p:cNvPicPr/>
          <p:nvPr/>
        </p:nvPicPr>
        <p:blipFill>
          <a:blip r:embed="rId1"/>
          <a:stretch/>
        </p:blipFill>
        <p:spPr>
          <a:xfrm>
            <a:off x="684360" y="981000"/>
            <a:ext cx="62690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1" descr="C:\Users\One\Desktop\Левитан.jpg"/>
          <p:cNvPicPr/>
          <p:nvPr/>
        </p:nvPicPr>
        <p:blipFill>
          <a:blip r:embed="rId1"/>
          <a:srcRect l="5591" t="15173" r="-17288" b="-15170"/>
          <a:stretch/>
        </p:blipFill>
        <p:spPr>
          <a:xfrm>
            <a:off x="1763640" y="2116080"/>
            <a:ext cx="6481800" cy="4917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1"/>
          <p:cNvSpPr/>
          <p:nvPr/>
        </p:nvSpPr>
        <p:spPr>
          <a:xfrm>
            <a:off x="1519200" y="549360"/>
            <a:ext cx="570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22 июня 1941 года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-о-нападен.mp3" descr=""/>
          <p:cNvPicPr/>
          <p:nvPr/>
        </p:nvPicPr>
        <p:blipFill>
          <a:blip r:embed="rId2"/>
          <a:stretch/>
        </p:blipFill>
        <p:spPr>
          <a:xfrm>
            <a:off x="97164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3104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Users\One\Desktop\z81FKLhx5KrrGi7h.jpg"/>
          <p:cNvPicPr/>
          <p:nvPr/>
        </p:nvPicPr>
        <p:blipFill>
          <a:blip r:embed="rId1"/>
          <a:stretch/>
        </p:blipFill>
        <p:spPr>
          <a:xfrm>
            <a:off x="1187280" y="907920"/>
            <a:ext cx="5905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C:\Users\One\Desktop\хлеб бл. Л..png"/>
          <p:cNvPicPr/>
          <p:nvPr/>
        </p:nvPicPr>
        <p:blipFill>
          <a:blip r:embed="rId1"/>
          <a:stretch/>
        </p:blipFill>
        <p:spPr>
          <a:xfrm>
            <a:off x="539640" y="604800"/>
            <a:ext cx="5977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ГОЛОД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6" name="Picture 3" descr="2226"/>
          <p:cNvPicPr/>
          <p:nvPr/>
        </p:nvPicPr>
        <p:blipFill>
          <a:blip r:embed="rId1"/>
          <a:stretch/>
        </p:blipFill>
        <p:spPr>
          <a:xfrm>
            <a:off x="1187280" y="1341360"/>
            <a:ext cx="7075800" cy="5311800"/>
          </a:xfrm>
          <a:prstGeom prst="rect">
            <a:avLst/>
          </a:prstGeom>
          <a:ln w="0">
            <a:noFill/>
          </a:ln>
        </p:spPr>
      </p:pic>
      <p:pic>
        <p:nvPicPr>
          <p:cNvPr id="407" name="S1816.wav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5564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БОИ НАД НАШЕЙ РОДИНОЙ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9" name="19_02.MPG" descr=""/>
          <p:cNvPicPr/>
          <p:nvPr/>
        </p:nvPicPr>
        <p:blipFill>
          <a:blip r:embed="rId1"/>
          <a:stretch/>
        </p:blipFill>
        <p:spPr>
          <a:xfrm>
            <a:off x="395280" y="5877000"/>
            <a:ext cx="792000" cy="6476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410" name="Picture 8" descr="0099"/>
          <p:cNvPicPr/>
          <p:nvPr/>
        </p:nvPicPr>
        <p:blipFill>
          <a:blip r:embed="rId2"/>
          <a:stretch/>
        </p:blipFill>
        <p:spPr>
          <a:xfrm>
            <a:off x="1403280" y="2349360"/>
            <a:ext cx="727236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АДРЫ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2" name="19_02.MPG" descr=""/>
          <p:cNvPicPr/>
          <p:nvPr/>
        </p:nvPicPr>
        <p:blipFill>
          <a:blip r:embed="rId1"/>
          <a:stretch/>
        </p:blipFill>
        <p:spPr>
          <a:xfrm>
            <a:off x="395280" y="5877000"/>
            <a:ext cx="719280" cy="58716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413" name="Picture 7" descr="2346"/>
          <p:cNvPicPr/>
          <p:nvPr/>
        </p:nvPicPr>
        <p:blipFill>
          <a:blip r:embed="rId2"/>
          <a:stretch/>
        </p:blipFill>
        <p:spPr>
          <a:xfrm>
            <a:off x="2411280" y="1736640"/>
            <a:ext cx="65516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WordArt 4"/>
          <p:cNvSpPr txBox="1"/>
          <p:nvPr/>
        </p:nvSpPr>
        <p:spPr>
          <a:xfrm>
            <a:off x="1476360" y="2349360"/>
            <a:ext cx="4378320" cy="294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 МА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1f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ОБЕДА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6" name="S1873733.wav" descr=""/>
          <p:cNvPicPr/>
          <p:nvPr/>
        </p:nvPicPr>
        <p:blipFill>
          <a:blip r:embed="rId1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" descr="1878"/>
          <p:cNvPicPr/>
          <p:nvPr/>
        </p:nvPicPr>
        <p:blipFill>
          <a:blip r:embed="rId2"/>
          <a:stretch/>
        </p:blipFill>
        <p:spPr>
          <a:xfrm>
            <a:off x="1332000" y="1700280"/>
            <a:ext cx="669456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887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ЦЕНА  ПОБЕ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9" name="S1983733.wav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1989"/>
          <p:cNvPicPr/>
          <p:nvPr/>
        </p:nvPicPr>
        <p:blipFill>
          <a:blip r:embed="rId2"/>
          <a:stretch/>
        </p:blipFill>
        <p:spPr>
          <a:xfrm>
            <a:off x="1187280" y="16732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7318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ОТЕРИ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2" name="S1113748.wav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1118"/>
          <p:cNvPicPr/>
          <p:nvPr/>
        </p:nvPicPr>
        <p:blipFill>
          <a:blip r:embed="rId2"/>
          <a:stretch/>
        </p:blipFill>
        <p:spPr>
          <a:xfrm>
            <a:off x="1403280" y="1844640"/>
            <a:ext cx="64785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7547" fill="hold"/>
                                        <p:tgtEl>
                                          <p:spTgt spid="4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ОТЕРИ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5" name="S1993.wav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1993"/>
          <p:cNvPicPr/>
          <p:nvPr/>
        </p:nvPicPr>
        <p:blipFill>
          <a:blip r:embed="rId2"/>
          <a:stretch/>
        </p:blipFill>
        <p:spPr>
          <a:xfrm>
            <a:off x="1116000" y="16732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20387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22  ИЮНЯ 1941 ГОД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2" name="04_03.MPG" descr=""/>
          <p:cNvPicPr/>
          <p:nvPr/>
        </p:nvPicPr>
        <p:blipFill>
          <a:blip r:embed="rId1"/>
          <a:stretch/>
        </p:blipFill>
        <p:spPr>
          <a:xfrm>
            <a:off x="324000" y="6021360"/>
            <a:ext cx="755640" cy="61740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363" name="Picture 8" descr="1391"/>
          <p:cNvPicPr/>
          <p:nvPr/>
        </p:nvPicPr>
        <p:blipFill>
          <a:blip r:embed="rId2"/>
          <a:stretch/>
        </p:blipFill>
        <p:spPr>
          <a:xfrm>
            <a:off x="1908000" y="1413000"/>
            <a:ext cx="6910560" cy="5182920"/>
          </a:xfrm>
          <a:prstGeom prst="rect">
            <a:avLst/>
          </a:prstGeom>
          <a:ln w="0">
            <a:noFill/>
          </a:ln>
        </p:spPr>
      </p:pic>
      <p:pic>
        <p:nvPicPr>
          <p:cNvPr id="364" name="Священная Война ).mp3" descr=""/>
          <p:cNvPicPr/>
          <p:nvPr/>
        </p:nvPicPr>
        <p:blipFill>
          <a:blip r:embed="rId3"/>
          <a:stretch/>
        </p:blipFill>
        <p:spPr>
          <a:xfrm>
            <a:off x="125892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2864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ОТЕРИ 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8" name="S0133764.wav" descr=""/>
          <p:cNvPicPr/>
          <p:nvPr/>
        </p:nvPicPr>
        <p:blipFill>
          <a:blip r:embed="rId1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0139"/>
          <p:cNvPicPr/>
          <p:nvPr/>
        </p:nvPicPr>
        <p:blipFill>
          <a:blip r:embed="rId2"/>
          <a:stretch/>
        </p:blipFill>
        <p:spPr>
          <a:xfrm>
            <a:off x="971640" y="1484280"/>
            <a:ext cx="698508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1133" fill="hold"/>
                                        <p:tgtEl>
                                          <p:spTgt spid="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РАЗРУШЕНО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1" name="S0503764.wav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8" descr="0502"/>
          <p:cNvPicPr/>
          <p:nvPr/>
        </p:nvPicPr>
        <p:blipFill>
          <a:blip r:embed="rId2"/>
          <a:stretch/>
        </p:blipFill>
        <p:spPr>
          <a:xfrm>
            <a:off x="1403280" y="1484280"/>
            <a:ext cx="694548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5302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ОТЕРИ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4" name="S1083780.wav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8" descr="1086"/>
          <p:cNvPicPr/>
          <p:nvPr/>
        </p:nvPicPr>
        <p:blipFill>
          <a:blip r:embed="rId2"/>
          <a:stretch/>
        </p:blipFill>
        <p:spPr>
          <a:xfrm>
            <a:off x="1403280" y="1844640"/>
            <a:ext cx="640728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7867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ОТЕРИ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7" name="S1103795.wav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1100"/>
          <p:cNvPicPr/>
          <p:nvPr/>
        </p:nvPicPr>
        <p:blipFill>
          <a:blip r:embed="rId2"/>
          <a:stretch/>
        </p:blipFill>
        <p:spPr>
          <a:xfrm>
            <a:off x="1547640" y="1773360"/>
            <a:ext cx="65502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3515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ОГИБШИЕ В ЛАГЕРЯХ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0" name="S0143.wav" descr=""/>
          <p:cNvPicPr/>
          <p:nvPr/>
        </p:nvPicPr>
        <p:blipFill>
          <a:blip r:embed="rId1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0143"/>
          <p:cNvPicPr/>
          <p:nvPr/>
        </p:nvPicPr>
        <p:blipFill>
          <a:blip r:embed="rId2"/>
          <a:stretch/>
        </p:blipFill>
        <p:spPr>
          <a:xfrm>
            <a:off x="1332000" y="1557360"/>
            <a:ext cx="680076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31245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1" descr="C:\Users\One\Desktop\веч.огонь.jpg"/>
          <p:cNvPicPr/>
          <p:nvPr/>
        </p:nvPicPr>
        <p:blipFill>
          <a:blip r:embed="rId1"/>
          <a:stretch/>
        </p:blipFill>
        <p:spPr>
          <a:xfrm>
            <a:off x="1692360" y="620640"/>
            <a:ext cx="6264360" cy="5832720"/>
          </a:xfrm>
          <a:prstGeom prst="rect">
            <a:avLst/>
          </a:prstGeom>
          <a:ln w="0">
            <a:noFill/>
          </a:ln>
        </p:spPr>
      </p:pic>
      <p:pic>
        <p:nvPicPr>
          <p:cNvPr id="443" name="metronom2.mp3" descr=""/>
          <p:cNvPicPr/>
          <p:nvPr/>
        </p:nvPicPr>
        <p:blipFill>
          <a:blip r:embed="rId2"/>
          <a:stretch/>
        </p:blipFill>
        <p:spPr>
          <a:xfrm>
            <a:off x="900000" y="371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45772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НАМЯ  ПОБЕ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5" name="19_03.MPG" descr=""/>
          <p:cNvPicPr/>
          <p:nvPr/>
        </p:nvPicPr>
        <p:blipFill>
          <a:blip r:embed="rId1"/>
          <a:stretch/>
        </p:blipFill>
        <p:spPr>
          <a:xfrm>
            <a:off x="7380360" y="5829480"/>
            <a:ext cx="720720" cy="58896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446" name="Picture 8" descr="2144"/>
          <p:cNvPicPr/>
          <p:nvPr/>
        </p:nvPicPr>
        <p:blipFill>
          <a:blip r:embed="rId2"/>
          <a:stretch/>
        </p:blipFill>
        <p:spPr>
          <a:xfrm>
            <a:off x="0" y="2060640"/>
            <a:ext cx="7000920" cy="4548240"/>
          </a:xfrm>
          <a:prstGeom prst="rect">
            <a:avLst/>
          </a:prstGeom>
          <a:ln w="0">
            <a:noFill/>
          </a:ln>
        </p:spPr>
      </p:pic>
      <p:pic>
        <p:nvPicPr>
          <p:cNvPr id="447" name="S2123811.wav" descr=""/>
          <p:cNvPicPr/>
          <p:nvPr/>
        </p:nvPicPr>
        <p:blipFill>
          <a:blip r:embed="rId3"/>
          <a:stretch/>
        </p:blipFill>
        <p:spPr>
          <a:xfrm>
            <a:off x="781200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1820" fill="hold"/>
                                        <p:tgtEl>
                                          <p:spTgt spid="4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3" dur="1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РАДОСТЬ ПОБЕ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9" name="S0483811.wav" descr=""/>
          <p:cNvPicPr/>
          <p:nvPr/>
        </p:nvPicPr>
        <p:blipFill>
          <a:blip r:embed="rId1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0481"/>
          <p:cNvPicPr/>
          <p:nvPr/>
        </p:nvPicPr>
        <p:blipFill>
          <a:blip r:embed="rId2"/>
          <a:stretch/>
        </p:blipFill>
        <p:spPr>
          <a:xfrm>
            <a:off x="1258920" y="1628640"/>
            <a:ext cx="72327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4890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ЕНЬ  ПОБЕ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2" name="Picture 7" descr="0733"/>
          <p:cNvPicPr/>
          <p:nvPr/>
        </p:nvPicPr>
        <p:blipFill>
          <a:blip r:embed="rId1"/>
          <a:stretch/>
        </p:blipFill>
        <p:spPr>
          <a:xfrm>
            <a:off x="2195640" y="1989000"/>
            <a:ext cx="6242040" cy="4678560"/>
          </a:xfrm>
          <a:prstGeom prst="rect">
            <a:avLst/>
          </a:prstGeom>
          <a:ln w="0">
            <a:noFill/>
          </a:ln>
        </p:spPr>
      </p:pic>
      <p:pic>
        <p:nvPicPr>
          <p:cNvPr id="453" name="21_04.MPG" descr=""/>
          <p:cNvPicPr/>
          <p:nvPr/>
        </p:nvPicPr>
        <p:blipFill>
          <a:blip r:embed="rId2"/>
          <a:stretch/>
        </p:blipFill>
        <p:spPr>
          <a:xfrm>
            <a:off x="324000" y="5715000"/>
            <a:ext cx="792000" cy="6476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5" dur="1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АРАД  ПОБЕ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5" name="21_01.MPG" descr=""/>
          <p:cNvPicPr/>
          <p:nvPr/>
        </p:nvPicPr>
        <p:blipFill>
          <a:blip r:embed="rId1"/>
          <a:stretch/>
        </p:blipFill>
        <p:spPr>
          <a:xfrm>
            <a:off x="250920" y="5084640"/>
            <a:ext cx="777960" cy="6368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456" name="Picture 8" descr="0519"/>
          <p:cNvPicPr/>
          <p:nvPr/>
        </p:nvPicPr>
        <p:blipFill>
          <a:blip r:embed="rId2"/>
          <a:stretch/>
        </p:blipFill>
        <p:spPr>
          <a:xfrm>
            <a:off x="1979640" y="1916280"/>
            <a:ext cx="6369120" cy="4776480"/>
          </a:xfrm>
          <a:prstGeom prst="rect">
            <a:avLst/>
          </a:prstGeom>
          <a:ln w="0">
            <a:noFill/>
          </a:ln>
        </p:spPr>
      </p:pic>
      <p:pic>
        <p:nvPicPr>
          <p:cNvPr id="457" name="S0733826.wav" descr=""/>
          <p:cNvPicPr/>
          <p:nvPr/>
        </p:nvPicPr>
        <p:blipFill>
          <a:blip r:embed="rId3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8" name="21_06.MPG" descr=""/>
          <p:cNvPicPr/>
          <p:nvPr/>
        </p:nvPicPr>
        <p:blipFill>
          <a:blip r:embed="rId4"/>
          <a:stretch/>
        </p:blipFill>
        <p:spPr>
          <a:xfrm>
            <a:off x="250920" y="5950080"/>
            <a:ext cx="742680" cy="6080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4615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6" dur="1" fill="hold"/>
                                        <p:tgtEl>
                                          <p:spTgt spid="4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1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22  ИЮНЯ 1941 ГОД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6" name="04_01.MPG" descr=""/>
          <p:cNvPicPr/>
          <p:nvPr/>
        </p:nvPicPr>
        <p:blipFill>
          <a:blip r:embed="rId1"/>
          <a:stretch/>
        </p:blipFill>
        <p:spPr>
          <a:xfrm>
            <a:off x="179280" y="6137280"/>
            <a:ext cx="647640" cy="5302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367" name="Picture 8" descr="0478"/>
          <p:cNvPicPr/>
          <p:nvPr/>
        </p:nvPicPr>
        <p:blipFill>
          <a:blip r:embed="rId2"/>
          <a:stretch/>
        </p:blipFill>
        <p:spPr>
          <a:xfrm>
            <a:off x="2124000" y="2027160"/>
            <a:ext cx="64404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C:\Users\One\Desktop\86930299.jpg"/>
          <p:cNvPicPr/>
          <p:nvPr/>
        </p:nvPicPr>
        <p:blipFill>
          <a:blip r:embed="rId1"/>
          <a:stretch/>
        </p:blipFill>
        <p:spPr>
          <a:xfrm>
            <a:off x="395280" y="1197000"/>
            <a:ext cx="6553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C:\Users\One\Desktop\смуглянка.jpg"/>
          <p:cNvPicPr/>
          <p:nvPr/>
        </p:nvPicPr>
        <p:blipFill>
          <a:blip r:embed="rId1"/>
          <a:stretch/>
        </p:blipFill>
        <p:spPr>
          <a:xfrm>
            <a:off x="1320840" y="946080"/>
            <a:ext cx="650232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C:\Users\One\Desktop\800x600_Tgc7HC2h9fVp8KWPyY5U.jpg"/>
          <p:cNvPicPr/>
          <p:nvPr/>
        </p:nvPicPr>
        <p:blipFill>
          <a:blip r:embed="rId1"/>
          <a:stretch/>
        </p:blipFill>
        <p:spPr>
          <a:xfrm>
            <a:off x="468360" y="620640"/>
            <a:ext cx="6335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E:\картинки ВОВ\345389062.jpg"/>
          <p:cNvPicPr/>
          <p:nvPr/>
        </p:nvPicPr>
        <p:blipFill>
          <a:blip r:embed="rId1"/>
          <a:stretch/>
        </p:blipFill>
        <p:spPr>
          <a:xfrm>
            <a:off x="785880" y="642960"/>
            <a:ext cx="72151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АЛЮТ  ПОБЕДЫ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4" name="Picture 8" descr="0308"/>
          <p:cNvPicPr/>
          <p:nvPr/>
        </p:nvPicPr>
        <p:blipFill>
          <a:blip r:embed="rId1"/>
          <a:stretch/>
        </p:blipFill>
        <p:spPr>
          <a:xfrm>
            <a:off x="2050920" y="1484280"/>
            <a:ext cx="6801120" cy="5100840"/>
          </a:xfrm>
          <a:prstGeom prst="rect">
            <a:avLst/>
          </a:prstGeom>
          <a:ln w="0">
            <a:noFill/>
          </a:ln>
        </p:spPr>
      </p:pic>
      <p:pic>
        <p:nvPicPr>
          <p:cNvPr id="465" name="21_05.MPG" descr=""/>
          <p:cNvPicPr/>
          <p:nvPr/>
        </p:nvPicPr>
        <p:blipFill>
          <a:blip r:embed="rId2"/>
          <a:stretch/>
        </p:blipFill>
        <p:spPr>
          <a:xfrm>
            <a:off x="395280" y="5151600"/>
            <a:ext cx="792000" cy="6476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E:\картинки ВОВ\951289fd-2bd2-43a2-a9d5-8818e6d34e2a.jpg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ЛАВА  РУССКОМУ НАРОДУ-ПОБЕДИТЕЛЮ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8" name="S0243842.wav" descr=""/>
          <p:cNvPicPr/>
          <p:nvPr/>
        </p:nvPicPr>
        <p:blipFill>
          <a:blip r:embed="rId1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0" descr="2236"/>
          <p:cNvPicPr/>
          <p:nvPr/>
        </p:nvPicPr>
        <p:blipFill>
          <a:blip r:embed="rId2"/>
          <a:stretch/>
        </p:blipFill>
        <p:spPr>
          <a:xfrm>
            <a:off x="1258920" y="1700280"/>
            <a:ext cx="63133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481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E:\картинки ВОВ\spek7.jpg"/>
          <p:cNvPicPr/>
          <p:nvPr/>
        </p:nvPicPr>
        <p:blipFill>
          <a:blip r:embed="rId1"/>
          <a:stretch/>
        </p:blipFill>
        <p:spPr>
          <a:xfrm>
            <a:off x="762120" y="882720"/>
            <a:ext cx="76197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Пусть всегда будет солнце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2" name="Picture 2" descr="C:\Users\One\Desktop\images.jpg"/>
          <p:cNvPicPr/>
          <p:nvPr/>
        </p:nvPicPr>
        <p:blipFill>
          <a:blip r:embed="rId1"/>
          <a:stretch/>
        </p:blipFill>
        <p:spPr>
          <a:xfrm>
            <a:off x="826920" y="1773360"/>
            <a:ext cx="590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22  ИЮНЯ 1941 ГОД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04_02.MPG" descr=""/>
          <p:cNvPicPr/>
          <p:nvPr/>
        </p:nvPicPr>
        <p:blipFill>
          <a:blip r:embed="rId1"/>
          <a:stretch/>
        </p:blipFill>
        <p:spPr>
          <a:xfrm>
            <a:off x="250920" y="6093000"/>
            <a:ext cx="684000" cy="56016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370" name="Picture 8" descr="0174"/>
          <p:cNvPicPr/>
          <p:nvPr/>
        </p:nvPicPr>
        <p:blipFill>
          <a:blip r:embed="rId2"/>
          <a:stretch/>
        </p:blipFill>
        <p:spPr>
          <a:xfrm>
            <a:off x="1979640" y="1700280"/>
            <a:ext cx="658476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ОЕННОЕ  ДЕТСТВО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2" name="17_01.MPG" descr=""/>
          <p:cNvPicPr/>
          <p:nvPr/>
        </p:nvPicPr>
        <p:blipFill>
          <a:blip r:embed="rId1"/>
          <a:stretch/>
        </p:blipFill>
        <p:spPr>
          <a:xfrm>
            <a:off x="250920" y="6039000"/>
            <a:ext cx="792000" cy="6476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373" name="Picture 7" descr="0231"/>
          <p:cNvPicPr/>
          <p:nvPr/>
        </p:nvPicPr>
        <p:blipFill>
          <a:blip r:embed="rId2"/>
          <a:stretch/>
        </p:blipFill>
        <p:spPr>
          <a:xfrm>
            <a:off x="0" y="1989000"/>
            <a:ext cx="824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Юный партиза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04_04.MPG" descr=""/>
          <p:cNvPicPr/>
          <p:nvPr/>
        </p:nvPicPr>
        <p:blipFill>
          <a:blip r:embed="rId1"/>
          <a:stretch/>
        </p:blipFill>
        <p:spPr>
          <a:xfrm>
            <a:off x="324000" y="6021360"/>
            <a:ext cx="755640" cy="61920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4500360" y="2000160"/>
            <a:ext cx="3571560" cy="4114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" descr="E:\картинки ВОВ\kAwixDzk69U.jpg"/>
          <p:cNvPicPr/>
          <p:nvPr/>
        </p:nvPicPr>
        <p:blipFill>
          <a:blip r:embed="rId3"/>
          <a:stretch/>
        </p:blipFill>
        <p:spPr>
          <a:xfrm>
            <a:off x="1116000" y="141300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ТРУД  ПОДРОСТКОВ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9" name="17_02.MPG" descr=""/>
          <p:cNvPicPr/>
          <p:nvPr/>
        </p:nvPicPr>
        <p:blipFill>
          <a:blip r:embed="rId1"/>
          <a:stretch/>
        </p:blipFill>
        <p:spPr>
          <a:xfrm>
            <a:off x="395280" y="5950080"/>
            <a:ext cx="863640" cy="70632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380" name="Picture 8" descr="0104"/>
          <p:cNvPicPr/>
          <p:nvPr/>
        </p:nvPicPr>
        <p:blipFill>
          <a:blip r:embed="rId2"/>
          <a:stretch/>
        </p:blipFill>
        <p:spPr>
          <a:xfrm>
            <a:off x="1000080" y="1628640"/>
            <a:ext cx="728676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ИОНЕРЫ-ГЕРО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2" name="17_03.MPG" descr=""/>
          <p:cNvPicPr/>
          <p:nvPr/>
        </p:nvPicPr>
        <p:blipFill>
          <a:blip r:embed="rId1"/>
          <a:stretch/>
        </p:blipFill>
        <p:spPr>
          <a:xfrm>
            <a:off x="539640" y="6021360"/>
            <a:ext cx="719280" cy="58896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383" name="Picture 8" descr="0371"/>
          <p:cNvPicPr/>
          <p:nvPr/>
        </p:nvPicPr>
        <p:blipFill>
          <a:blip r:embed="rId2"/>
          <a:stretch/>
        </p:blipFill>
        <p:spPr>
          <a:xfrm>
            <a:off x="1571760" y="1428840"/>
            <a:ext cx="66085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5:30:47Z</dcterms:created>
  <dc:creator>Влад</dc:creator>
  <dc:description/>
  <dc:language>en-US</dc:language>
  <cp:lastModifiedBy>One</cp:lastModifiedBy>
  <dcterms:modified xsi:type="dcterms:W3CDTF">2015-05-04T12:46:26Z</dcterms:modified>
  <cp:revision>91</cp:revision>
  <dc:subject/>
  <dc:title>Слайд 1</dc:title>
</cp:coreProperties>
</file>